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110-9231-4B1B-B0A8-E6842D90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81F8-4237-46E7-917D-8250B86A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6ACA-7AB8-4232-8ABE-269791D2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DAB4-9E97-46DE-86B3-70CFD37B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140D-859B-4DF4-BA2F-D0F84246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8E33-0D8C-476C-B0B2-86E1C668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6726-2B6E-46C9-9756-6B7C15B3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F04E-CC39-458E-BA5E-270BE293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C3C6-A36C-4B0D-A6C6-17D3AAC9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D084-7F52-4658-B00B-68D0EA65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0791-4230-4C46-A1C6-AF825199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05F4-C262-41BD-B35F-80C3B4FD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0B60-67ED-4759-BE00-DE470C59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3C19-0AF2-43B7-ADC3-11BCF9CF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C674-A05B-481F-A84F-9742BB18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93EB-9C97-4356-8ED8-698D8792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5E80-1B54-41D6-A96E-573DF986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5622-CFA2-46E3-8330-67AF5D7A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3443-F92A-422E-BA5E-EE932C32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242B-4ABA-49D6-8FBA-04EA709E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2F29-FECC-46A6-9B32-7AEC7103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47A2-35ED-46F5-940F-13E63DF1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C139-5449-466B-9350-0ABDF02D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D6D-C289-4CE3-A5BE-8D8AD0A9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2E59-1680-4E7B-9FB7-2EB5FD4AF8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B5A9-C2CD-4D76-B245-AFAD259753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c1102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c1102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049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-304920" y="16002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ue Process &amp; Student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14600" y="2844720"/>
            <a:ext cx="5842080" cy="2946600"/>
          </a:xfrm>
          <a:prstGeom prst="rect">
            <a:avLst/>
          </a:prstGeom>
          <a:ln w="92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Metal Detectors </a:t>
            </a:r>
            <a:br>
              <a:rPr sz="4400"/>
            </a:b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&amp; Drug Testing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Metal detectors should be used only when there is evidence of student behavior that poses threat to student health and safety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Drug testing by schools has been deemed legal in the Supreme court pending it is part of the school’s district-wide program on drug education and prevention and is in the district’s interest in combating drug abuse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Increased concern for safety across the nation after 9/11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No Child Left Behind assures schools “plans” are on file regarding maintenance of safe &amp; drug free environments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Homeland Security</a:t>
            </a: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NSCC guidelines for safe schools: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Identify context in which academic learning should take place in school mission statement. </a:t>
            </a:r>
            <a:r>
              <a:rPr b="0" i="1" lang="en-US" sz="2000" spc="-1" strike="noStrike">
                <a:solidFill>
                  <a:srgbClr val="2c1102"/>
                </a:solidFill>
                <a:latin typeface="Arial"/>
              </a:rPr>
              <a:t>(ie:  “to learn in a safe and secure environment free of violence, drugs…”)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Identify procedure for dealing with threats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Identify potential disasters in your school. </a:t>
            </a: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(ie:  intruders, assault, weapons, kidnappings, child abuse, accidental death, natural disasters…)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c110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Control campus access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c110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Identify roles and responsibilities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c110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Identify who to call in a crisis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c110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Provide training for all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c110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Establish and emergency communication system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c110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Implement uniform reporting/record-keeping system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c1102"/>
                </a:solidFill>
                <a:latin typeface="Arial"/>
              </a:rPr>
              <a:t>NSCC guidelines for safe schools cont.</a:t>
            </a:r>
            <a:endParaRPr b="1" lang="en-US" sz="32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Handling GANG violence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Ensure that school personnel have knowledge of gang identification and management techniques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Establish policies and procedures to address gang violence at school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Implement a system to report suspected gang involvement/activity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May need to ban dress related to gang activity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School Uniforms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Involve the community in drafting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Make certain student religious expressions are preserved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Make certain student rights of expression are preserved within reasonable limits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Make financial provisions for economically disadvantaged students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Enforce policies fairly and consistently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Implement as a component of an overall school safety program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Present drafts to legal counsel for review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Review and revise as needed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Zero Tolerance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c1102"/>
                </a:solidFill>
                <a:latin typeface="Arial"/>
              </a:rPr>
              <a:t>Do not use solely to rid of disruptive students.</a:t>
            </a:r>
            <a:endParaRPr b="0" lang="en-US" sz="25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c1102"/>
                </a:solidFill>
                <a:latin typeface="Arial"/>
              </a:rPr>
              <a:t>Involve community in formation of policies regarding zero tolerance.</a:t>
            </a:r>
            <a:endParaRPr b="0" lang="en-US" sz="25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c1102"/>
                </a:solidFill>
                <a:latin typeface="Arial"/>
              </a:rPr>
              <a:t>Recognize that students have constitutional rights while drafting.</a:t>
            </a:r>
            <a:endParaRPr b="0" lang="en-US" sz="25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c1102"/>
                </a:solidFill>
                <a:latin typeface="Arial"/>
              </a:rPr>
              <a:t>Do not move too swiftly with an assumption that it will be a “cure-all” for student mis-conduct.</a:t>
            </a:r>
            <a:endParaRPr b="0" lang="en-US" sz="25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c1102"/>
                </a:solidFill>
                <a:latin typeface="Arial"/>
              </a:rPr>
              <a:t>Upon expulsion of a student, seek alternative educational opportunities.</a:t>
            </a:r>
            <a:endParaRPr b="0" lang="en-US" sz="25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c1102"/>
                </a:solidFill>
                <a:latin typeface="Arial"/>
              </a:rPr>
              <a:t>Consider student history, seriousness of offense, and immediate need to act before punishment.</a:t>
            </a:r>
            <a:endParaRPr b="0" lang="en-US" sz="25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c1102"/>
                </a:solidFill>
                <a:latin typeface="Arial"/>
              </a:rPr>
              <a:t>Follow due process in all manners.</a:t>
            </a:r>
            <a:endParaRPr b="0" lang="en-US" sz="25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Suspension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c1102"/>
                </a:solidFill>
                <a:latin typeface="Arial"/>
              </a:rPr>
              <a:t>Give adequate notice of policies regarding suspension.</a:t>
            </a:r>
            <a:endParaRPr b="0" lang="en-US" sz="21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c1102"/>
                </a:solidFill>
                <a:latin typeface="Arial"/>
              </a:rPr>
              <a:t>Compile a record of information. </a:t>
            </a:r>
            <a:r>
              <a:rPr b="0" lang="en-US" sz="1600" spc="-1" strike="noStrike">
                <a:solidFill>
                  <a:srgbClr val="2c1102"/>
                </a:solidFill>
                <a:latin typeface="Arial"/>
              </a:rPr>
              <a:t>(Include: description, time, and place of infraction, witnesses, and previous efforts to remedy behavior)</a:t>
            </a:r>
            <a:endParaRPr b="0" lang="en-US" sz="16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c1102"/>
                </a:solidFill>
                <a:latin typeface="Arial"/>
              </a:rPr>
              <a:t>Provide some type of hearing preceded by notification of such.</a:t>
            </a:r>
            <a:endParaRPr b="0" lang="en-US" sz="21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c1102"/>
                </a:solidFill>
                <a:latin typeface="Arial"/>
              </a:rPr>
              <a:t>Provide written or oral notice of charges </a:t>
            </a:r>
            <a:r>
              <a:rPr b="0" lang="en-US" sz="1600" spc="-1" strike="noStrike">
                <a:solidFill>
                  <a:srgbClr val="2c1102"/>
                </a:solidFill>
                <a:latin typeface="Arial"/>
              </a:rPr>
              <a:t>(Include evidence and opportunity to refute charges).</a:t>
            </a:r>
            <a:endParaRPr b="0" lang="en-US" sz="16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c1102"/>
                </a:solidFill>
                <a:latin typeface="Arial"/>
              </a:rPr>
              <a:t>No delay is necessary between notice and hearing.</a:t>
            </a:r>
            <a:endParaRPr b="0" lang="en-US" sz="21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c1102"/>
                </a:solidFill>
                <a:latin typeface="Arial"/>
              </a:rPr>
              <a:t>Listen to all sides of the issue during the hearing.  Students should be allowed to present their side without interruption.</a:t>
            </a:r>
            <a:endParaRPr b="0" lang="en-US" sz="21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c1102"/>
                </a:solidFill>
                <a:latin typeface="Arial"/>
              </a:rPr>
              <a:t>Provide written notification of the actions from the hearing to the parents/guardians </a:t>
            </a:r>
            <a:r>
              <a:rPr b="0" lang="en-US" sz="1600" spc="-1" strike="noStrike">
                <a:solidFill>
                  <a:srgbClr val="2c1102"/>
                </a:solidFill>
                <a:latin typeface="Arial"/>
              </a:rPr>
              <a:t>(Include:  charges, evidence, number of days of suspension, ISS or OSS, conditions for return to school, statement that suspension can be appealed if desired.)</a:t>
            </a:r>
            <a:endParaRPr b="0" lang="en-US" sz="16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c1102"/>
                </a:solidFill>
                <a:latin typeface="Arial"/>
              </a:rPr>
              <a:t>Inform parents/guardians by phone immediately.  Follow with written notification promptly.</a:t>
            </a:r>
            <a:endParaRPr b="0" lang="en-US" sz="21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Expulsion</a:t>
            </a:r>
            <a:br>
              <a:rPr sz="4400"/>
            </a:br>
            <a:r>
              <a:rPr b="1" lang="en-US" sz="1400" spc="-1" strike="noStrike">
                <a:solidFill>
                  <a:srgbClr val="2c1102"/>
                </a:solidFill>
                <a:latin typeface="Arial"/>
              </a:rPr>
              <a:t>**These steps will meet the standards of due process if implemented correctly.**</a:t>
            </a:r>
            <a:endParaRPr b="1" lang="en-US" sz="1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Inform student(s), parents/guardians based on school policy of infractions that may result in expulsion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Student is entitled to written notice of the charges and a right to a fair trial. </a:t>
            </a:r>
            <a:r>
              <a:rPr b="0" lang="en-US" sz="1600" spc="-1" strike="noStrike">
                <a:solidFill>
                  <a:srgbClr val="2c1102"/>
                </a:solidFill>
                <a:latin typeface="Arial"/>
              </a:rPr>
              <a:t>Written notice must be furnished well in advance of the actual hearing.</a:t>
            </a:r>
            <a:endParaRPr b="0" lang="en-US" sz="16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The following procedural steps should be considered </a:t>
            </a:r>
            <a:r>
              <a:rPr b="0" lang="en-US" sz="1600" spc="-1" strike="noStrike">
                <a:solidFill>
                  <a:srgbClr val="2c1102"/>
                </a:solidFill>
                <a:latin typeface="Arial"/>
              </a:rPr>
              <a:t>(at the minimum):</a:t>
            </a:r>
            <a:endParaRPr b="0" lang="en-US" sz="1600" spc="-1" strike="noStrike">
              <a:solidFill>
                <a:srgbClr val="2c1102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1. Written notice of charges, 2. Right to a fair hearing, 3. Right to inspect evidence, 4. Right to present evidence on student’s behalf, 5. Right to legal counsel, 6. Right to call witnesses, 7. Right to cross-examine, 8. Right against self-incrimination, 9.  Right to appeal</a:t>
            </a: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9:01:17Z</dcterms:created>
  <dc:creator>Roni  Dorsey</dc:creator>
  <dc:description/>
  <dc:language>en-US</dc:language>
  <cp:lastModifiedBy>Roni  Dorsey</cp:lastModifiedBy>
  <dcterms:modified xsi:type="dcterms:W3CDTF">2009-07-10T19:58:45Z</dcterms:modified>
  <cp:revision>2</cp:revision>
  <dc:subject/>
  <dc:title>Chapter 4</dc:title>
</cp:coreProperties>
</file>